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2912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1F1C-ADE9-4C8D-BA49-F523DD73F3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68C0-D5F4-45D2-9FCC-5EFED01AA1A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6FE-C7E4-467A-A975-E87FF42B5AA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7E4-7A43-4384-BEDF-06900A0F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C24-5F43-4818-8305-C361DC1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542-F0C1-4B37-8AA9-796ABA44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67E-2B34-466C-893A-B6A63A87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857-B81C-4D8A-94E2-AF3C1A6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3B1-155F-44D9-9A5E-6FC91B6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4D3-8E0B-44F3-ABC1-259841A8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EF6-336C-47A3-A116-E42A7BDA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62B-8837-4194-BEA1-BA423E92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0B6-93A9-4ABA-A534-94C24F0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56B-AFCD-47E4-8983-28391FD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38C-5FA4-4450-8E9B-86D16A8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E74-D17B-48FE-BEA1-0FFAFCA7E15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CuadroTexto"/>
          <p:cNvSpPr/>
          <p:nvPr/>
        </p:nvSpPr>
        <p:spPr>
          <a:xfrm>
            <a:off x="1332000" y="2565360"/>
            <a:ext cx="6840360" cy="1739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TE DE LA REHABILITACIÓN DE LAS REDES ELÉC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5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55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9 CuadroTexto"/>
          <p:cNvSpPr/>
          <p:nvPr/>
        </p:nvSpPr>
        <p:spPr>
          <a:xfrm>
            <a:off x="755640" y="83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MPRESA ELÉCTRICA LA H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643280" y="54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1 de enero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1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55520" y="-1766880"/>
            <a:ext cx="552456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FECTACIONES SECUNDARIAS Y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82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87" name="2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3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3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3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684360" y="1268280"/>
          <a:ext cx="7777080" cy="4954680"/>
        </p:xfrm>
        <a:graphic>
          <a:graphicData uri="http://schemas.openxmlformats.org/drawingml/2006/table">
            <a:tbl>
              <a:tblPr/>
              <a:tblGrid>
                <a:gridCol w="561960"/>
                <a:gridCol w="1112760"/>
                <a:gridCol w="1063440"/>
                <a:gridCol w="843120"/>
                <a:gridCol w="766800"/>
                <a:gridCol w="834840"/>
                <a:gridCol w="649440"/>
                <a:gridCol w="692280"/>
                <a:gridCol w="1252440"/>
              </a:tblGrid>
              <a:tr h="54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 Abier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í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mbí y El Ro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que se termine el trabajo del H-453 UEB Inversion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nid Puer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2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ías sin identifi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 Servicios C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ar 120 Acomet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Arroyo- Playa, Espe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1 postes,  8 bancos de transf  e Instalar 500 acometidas pr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-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200 m de conductor, es necesario limpiar escombros primer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RZA DE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94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99" name="2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3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3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3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324000" y="2492280"/>
          <a:ext cx="8353440" cy="2171880"/>
        </p:xfrm>
        <a:graphic>
          <a:graphicData uri="http://schemas.openxmlformats.org/drawingml/2006/table">
            <a:tbl>
              <a:tblPr/>
              <a:tblGrid>
                <a:gridCol w="5332320"/>
                <a:gridCol w="1635120"/>
                <a:gridCol w="138600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upos de Traba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gadas Lín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gadas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misión y Subtransm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Brig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63" name="4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5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6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7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13 Grupo"/>
          <p:cNvGrpSpPr/>
          <p:nvPr/>
        </p:nvGrpSpPr>
        <p:grpSpPr>
          <a:xfrm>
            <a:off x="0" y="6429240"/>
            <a:ext cx="9144000" cy="357480"/>
            <a:chOff x="0" y="6429240"/>
            <a:chExt cx="9144000" cy="357480"/>
          </a:xfrm>
        </p:grpSpPr>
        <p:sp>
          <p:nvSpPr>
            <p:cNvPr id="68" name="10 Conector recto"/>
            <p:cNvSpPr/>
            <p:nvPr/>
          </p:nvSpPr>
          <p:spPr>
            <a:xfrm>
              <a:off x="0" y="6642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11 Conector recto"/>
            <p:cNvSpPr/>
            <p:nvPr/>
          </p:nvSpPr>
          <p:spPr>
            <a:xfrm>
              <a:off x="0" y="6785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12 Conector recto"/>
            <p:cNvSpPr/>
            <p:nvPr/>
          </p:nvSpPr>
          <p:spPr>
            <a:xfrm>
              <a:off x="0" y="6572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13 Conector recto"/>
            <p:cNvSpPr/>
            <p:nvPr/>
          </p:nvSpPr>
          <p:spPr>
            <a:xfrm>
              <a:off x="0" y="6429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24 CuadroTexto"/>
          <p:cNvSpPr/>
          <p:nvPr/>
        </p:nvSpPr>
        <p:spPr>
          <a:xfrm>
            <a:off x="0" y="549360"/>
            <a:ext cx="9144000" cy="398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TERIZACIÓN TÉCNICA DE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4 Imagen" descr="la habana 2.jpeg"/>
          <p:cNvPicPr/>
          <p:nvPr/>
        </p:nvPicPr>
        <p:blipFill>
          <a:blip r:embed="rId1"/>
          <a:stretch/>
        </p:blipFill>
        <p:spPr>
          <a:xfrm>
            <a:off x="3780000" y="1058760"/>
            <a:ext cx="5227560" cy="2935440"/>
          </a:xfrm>
          <a:prstGeom prst="rect">
            <a:avLst/>
          </a:prstGeom>
          <a:ln w="0">
            <a:noFill/>
          </a:ln>
        </p:spPr>
      </p:pic>
      <p:grpSp>
        <p:nvGrpSpPr>
          <p:cNvPr id="74" name="21 CuadroTexto"/>
          <p:cNvGrpSpPr/>
          <p:nvPr/>
        </p:nvGrpSpPr>
        <p:grpSpPr>
          <a:xfrm>
            <a:off x="195120" y="1212840"/>
            <a:ext cx="3492720" cy="1042920"/>
            <a:chOff x="195120" y="1212840"/>
            <a:chExt cx="3492720" cy="1042920"/>
          </a:xfrm>
        </p:grpSpPr>
        <p:pic>
          <p:nvPicPr>
            <p:cNvPr id="75" name="21 CuadroTexto" descr=""/>
            <p:cNvPicPr/>
            <p:nvPr/>
          </p:nvPicPr>
          <p:blipFill>
            <a:blip r:embed="rId2"/>
            <a:stretch/>
          </p:blipFill>
          <p:spPr>
            <a:xfrm>
              <a:off x="195120" y="1212840"/>
              <a:ext cx="349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50920" y="132228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8 9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km lín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22 CuadroTexto"/>
          <p:cNvGrpSpPr/>
          <p:nvPr/>
        </p:nvGrpSpPr>
        <p:grpSpPr>
          <a:xfrm>
            <a:off x="195120" y="2120760"/>
            <a:ext cx="3492720" cy="1036800"/>
            <a:chOff x="195120" y="2120760"/>
            <a:chExt cx="3492720" cy="1036800"/>
          </a:xfrm>
        </p:grpSpPr>
        <p:pic>
          <p:nvPicPr>
            <p:cNvPr id="78" name="22 CuadroTexto" descr=""/>
            <p:cNvPicPr/>
            <p:nvPr/>
          </p:nvPicPr>
          <p:blipFill>
            <a:blip r:embed="rId3"/>
            <a:stretch/>
          </p:blipFill>
          <p:spPr>
            <a:xfrm>
              <a:off x="195120" y="2120760"/>
              <a:ext cx="34927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50920" y="222876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33 0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Transformadores de Distrib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23 CuadroTexto"/>
          <p:cNvGrpSpPr/>
          <p:nvPr/>
        </p:nvGrpSpPr>
        <p:grpSpPr>
          <a:xfrm>
            <a:off x="195120" y="3054240"/>
            <a:ext cx="3492720" cy="1036800"/>
            <a:chOff x="195120" y="3054240"/>
            <a:chExt cx="3492720" cy="1036800"/>
          </a:xfrm>
        </p:grpSpPr>
        <p:pic>
          <p:nvPicPr>
            <p:cNvPr id="81" name="23 CuadroTexto" descr=""/>
            <p:cNvPicPr/>
            <p:nvPr/>
          </p:nvPicPr>
          <p:blipFill>
            <a:blip r:embed="rId4"/>
            <a:stretch/>
          </p:blipFill>
          <p:spPr>
            <a:xfrm>
              <a:off x="195120" y="3054240"/>
              <a:ext cx="34927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50920" y="316224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ubestaciones de Trans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19 CuadroTexto"/>
          <p:cNvGrpSpPr/>
          <p:nvPr/>
        </p:nvGrpSpPr>
        <p:grpSpPr>
          <a:xfrm>
            <a:off x="195120" y="5254560"/>
            <a:ext cx="3492720" cy="1042920"/>
            <a:chOff x="195120" y="5254560"/>
            <a:chExt cx="3492720" cy="1042920"/>
          </a:xfrm>
        </p:grpSpPr>
        <p:pic>
          <p:nvPicPr>
            <p:cNvPr id="84" name="19 CuadroTexto" descr=""/>
            <p:cNvPicPr/>
            <p:nvPr/>
          </p:nvPicPr>
          <p:blipFill>
            <a:blip r:embed="rId5"/>
            <a:stretch/>
          </p:blipFill>
          <p:spPr>
            <a:xfrm>
              <a:off x="195120" y="5254560"/>
              <a:ext cx="349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0920" y="536580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70 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umin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23 CuadroTexto"/>
          <p:cNvGrpSpPr/>
          <p:nvPr/>
        </p:nvGrpSpPr>
        <p:grpSpPr>
          <a:xfrm>
            <a:off x="195120" y="4005360"/>
            <a:ext cx="3492720" cy="1420560"/>
            <a:chOff x="195120" y="4005360"/>
            <a:chExt cx="3492720" cy="1420560"/>
          </a:xfrm>
        </p:grpSpPr>
        <p:pic>
          <p:nvPicPr>
            <p:cNvPr id="87" name="23 CuadroTexto" descr=""/>
            <p:cNvPicPr/>
            <p:nvPr/>
          </p:nvPicPr>
          <p:blipFill>
            <a:blip r:embed="rId6"/>
            <a:stretch/>
          </p:blipFill>
          <p:spPr>
            <a:xfrm>
              <a:off x="195120" y="4005360"/>
              <a:ext cx="34927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0920" y="4111560"/>
              <a:ext cx="338436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2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ubestaciones de Subtrasmisión, de ellas</a:t>
              </a: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58 </a:t>
              </a: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prop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3 CuadroTexto"/>
          <p:cNvSpPr/>
          <p:nvPr/>
        </p:nvSpPr>
        <p:spPr>
          <a:xfrm>
            <a:off x="5219640" y="4005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Arial"/>
              </a:rPr>
              <a:t>783 km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xtensión Super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CuadroTexto"/>
          <p:cNvSpPr/>
          <p:nvPr/>
        </p:nvSpPr>
        <p:spPr>
          <a:xfrm>
            <a:off x="324000" y="907920"/>
            <a:ext cx="3779640" cy="8254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LORE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92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97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5 CuadroTexto"/>
          <p:cNvSpPr/>
          <p:nvPr/>
        </p:nvSpPr>
        <p:spPr>
          <a:xfrm>
            <a:off x="395280" y="2274840"/>
            <a:ext cx="3673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1:00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346 M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 Dejada de Serv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18 M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 CuadroTexto"/>
          <p:cNvSpPr/>
          <p:nvPr/>
        </p:nvSpPr>
        <p:spPr>
          <a:xfrm>
            <a:off x="4427640" y="2060640"/>
            <a:ext cx="4608360" cy="411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terminó el trabajo de 33 kV del circuito 1400, pero está pendiente calentar por trabajos de la línea de uso conjunto de 13.8 k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erraron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ircuitos de 13.8 k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 Diez Octu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Reg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Habana del 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6 CuadroTexto"/>
          <p:cNvSpPr/>
          <p:nvPr/>
        </p:nvSpPr>
        <p:spPr>
          <a:xfrm>
            <a:off x="4753080" y="907920"/>
            <a:ext cx="3779640" cy="119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VANCE CUANTITATIVO DEL 30 AL 31 E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05" name="4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5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6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7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24 CuadroTexto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NICIPIOS CON AFEC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4 Imagen" descr="la habana 2.jpeg"/>
          <p:cNvPicPr/>
          <p:nvPr/>
        </p:nvPicPr>
        <p:blipFill>
          <a:blip r:embed="rId1"/>
          <a:stretch/>
        </p:blipFill>
        <p:spPr>
          <a:xfrm>
            <a:off x="1476360" y="1700280"/>
            <a:ext cx="5256360" cy="2952720"/>
          </a:xfrm>
          <a:prstGeom prst="rect">
            <a:avLst/>
          </a:prstGeom>
          <a:ln w="0">
            <a:noFill/>
          </a:ln>
        </p:spPr>
      </p:pic>
      <p:sp>
        <p:nvSpPr>
          <p:cNvPr id="111" name="64 CuadroTexto"/>
          <p:cNvSpPr/>
          <p:nvPr/>
        </p:nvSpPr>
        <p:spPr>
          <a:xfrm>
            <a:off x="250920" y="4797360"/>
            <a:ext cx="8748720" cy="1008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27 660 Total Clientes Afectados (3.3 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13 Circuitos Primarios afectados, de ellos afectados al 100 %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Además existen 8 Circuitos Primarios con Afectaciones Secun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1 CuadroTexto"/>
          <p:cNvSpPr/>
          <p:nvPr/>
        </p:nvSpPr>
        <p:spPr>
          <a:xfrm>
            <a:off x="179280" y="3708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EZ OCTU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2 CuadroTexto"/>
          <p:cNvSpPr/>
          <p:nvPr/>
        </p:nvSpPr>
        <p:spPr>
          <a:xfrm>
            <a:off x="6300720" y="3789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ABA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4 CuadroTexto"/>
          <p:cNvSpPr/>
          <p:nvPr/>
        </p:nvSpPr>
        <p:spPr>
          <a:xfrm>
            <a:off x="320364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76 Llamada con línea 1"/>
          <p:cNvSpPr/>
          <p:nvPr/>
        </p:nvSpPr>
        <p:spPr>
          <a:xfrm>
            <a:off x="6084720" y="4076640"/>
            <a:ext cx="2303640" cy="576360"/>
          </a:xfrm>
          <a:prstGeom prst="borderCallout1">
            <a:avLst>
              <a:gd name="adj1" fmla="val 18750"/>
              <a:gd name="adj2" fmla="val -8333"/>
              <a:gd name="adj3" fmla="val -188504"/>
              <a:gd name="adj4" fmla="val -4447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4 295 (9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3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 Circuitos afectados, 1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7 Llamada con línea 1"/>
          <p:cNvSpPr/>
          <p:nvPr/>
        </p:nvSpPr>
        <p:spPr>
          <a:xfrm>
            <a:off x="4140360" y="1125360"/>
            <a:ext cx="2447640" cy="574920"/>
          </a:xfrm>
          <a:prstGeom prst="borderCallout1">
            <a:avLst>
              <a:gd name="adj1" fmla="val 18750"/>
              <a:gd name="adj2" fmla="val -8333"/>
              <a:gd name="adj3" fmla="val 210222"/>
              <a:gd name="adj4" fmla="val -1046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 11 885 (78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1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 Circuitos afectados,  todos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79 Llamada con línea 1"/>
          <p:cNvSpPr/>
          <p:nvPr/>
        </p:nvSpPr>
        <p:spPr>
          <a:xfrm>
            <a:off x="179280" y="4149720"/>
            <a:ext cx="2305080" cy="574560"/>
          </a:xfrm>
          <a:prstGeom prst="borderCallout1">
            <a:avLst>
              <a:gd name="adj1" fmla="val 18750"/>
              <a:gd name="adj2" fmla="val -8333"/>
              <a:gd name="adj3" fmla="val -265972"/>
              <a:gd name="adj4" fmla="val 14307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 11 446 (9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81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 Circuitos afectados, 1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9 CuadroTexto"/>
          <p:cNvSpPr/>
          <p:nvPr/>
        </p:nvSpPr>
        <p:spPr>
          <a:xfrm>
            <a:off x="287280" y="5877000"/>
            <a:ext cx="8748720" cy="824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alibri"/>
              </a:rPr>
              <a:t>Los municipios de Habana del Este y SMP solo tienen afectados 20 y 14 clientes respectivamente. La mayoría de estos clientes son no residenciales. Estas afectaciones se están resolviendo con personal de las UE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2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25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16 CuadroTexto"/>
          <p:cNvSpPr/>
          <p:nvPr/>
        </p:nvSpPr>
        <p:spPr>
          <a:xfrm>
            <a:off x="250920" y="692280"/>
            <a:ext cx="84978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VANCE DE LOS TRABAJOS EN LA REHABIL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84280"/>
          <a:ext cx="8496000" cy="1743120"/>
        </p:xfrm>
        <a:graphic>
          <a:graphicData uri="http://schemas.openxmlformats.org/drawingml/2006/table">
            <a:tbl>
              <a:tblPr/>
              <a:tblGrid>
                <a:gridCol w="1728720"/>
                <a:gridCol w="1103400"/>
                <a:gridCol w="1415880"/>
                <a:gridCol w="1239840"/>
                <a:gridCol w="1592280"/>
                <a:gridCol w="1415880"/>
              </a:tblGrid>
              <a:tr h="37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ñ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bl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8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4292640"/>
          <a:ext cx="8496360" cy="12859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311120"/>
                <a:gridCol w="1592280"/>
                <a:gridCol w="14162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bl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ormadores 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4 5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 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 8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34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39" name="17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8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9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24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324000" y="1341360"/>
          <a:ext cx="8496000" cy="4824360"/>
        </p:xfrm>
        <a:graphic>
          <a:graphicData uri="http://schemas.openxmlformats.org/drawingml/2006/table">
            <a:tbl>
              <a:tblPr/>
              <a:tblGrid>
                <a:gridCol w="1277640"/>
                <a:gridCol w="668520"/>
                <a:gridCol w="669960"/>
                <a:gridCol w="668160"/>
                <a:gridCol w="666720"/>
                <a:gridCol w="588960"/>
                <a:gridCol w="590760"/>
                <a:gridCol w="539640"/>
                <a:gridCol w="627120"/>
                <a:gridCol w="587520"/>
                <a:gridCol w="585720"/>
                <a:gridCol w="471240"/>
                <a:gridCol w="554040"/>
              </a:tblGrid>
              <a:tr h="32544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nicip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itos Primar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 de Transform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de Clientes con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ntidad de Brigadas Trabaj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os de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ircuitos Primar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Banco de Transform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oyo Naran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Habana - Habana Vie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o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 - 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ana del 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n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a-Ce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Migue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terr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6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4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6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6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ÓN EN LA TRANSMISIÓN Y SUB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46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51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468360" y="1844640"/>
          <a:ext cx="8207280" cy="1984320"/>
        </p:xfrm>
        <a:graphic>
          <a:graphicData uri="http://schemas.openxmlformats.org/drawingml/2006/table">
            <a:tbl>
              <a:tblPr/>
              <a:tblGrid>
                <a:gridCol w="431640"/>
                <a:gridCol w="960480"/>
                <a:gridCol w="785880"/>
                <a:gridCol w="822240"/>
                <a:gridCol w="2603520"/>
                <a:gridCol w="2603520"/>
              </a:tblGrid>
              <a:tr h="490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(GC15-R4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trabajos por la línea de 13,8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 Líneas Aéreas. EEL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rig.líne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4 estructuras, 2 km de conductor 33 kV y 13 K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CuadroTexto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CIRCUITOS 13.8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58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63" name="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1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1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1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324000" y="1197000"/>
          <a:ext cx="8640720" cy="4830840"/>
        </p:xfrm>
        <a:graphic>
          <a:graphicData uri="http://schemas.openxmlformats.org/drawingml/2006/table">
            <a:tbl>
              <a:tblPr/>
              <a:tblGrid>
                <a:gridCol w="550800"/>
                <a:gridCol w="815760"/>
                <a:gridCol w="505080"/>
                <a:gridCol w="863640"/>
                <a:gridCol w="636480"/>
                <a:gridCol w="726840"/>
                <a:gridCol w="2314800"/>
                <a:gridCol w="1025640"/>
                <a:gridCol w="601560"/>
                <a:gridCol w="60012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 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í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fectación del Circui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 Afect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Mat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7 postes, extender prim y 8 bancos transf. 1 km de secund. Instalar 40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Mayabeque y UEBT Boy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10 postes y 1,5 km conduct prim.Trabajar en 4 Bancos Transf.  Cerrar Puente. Puede quedar pendiente las casitas de CUPE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7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Ciego de Ávila y UEBT Guanabacoa-Regla, Boyeros, Invers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6 postes, 7 transfo y 1,8 Km de conducto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 salga el R453 se puede calentar. El tramo afectado no tiene clien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Ciego de Ávila, Cienfuegos y UEBT Pla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22 postes primario, 5 transf e Instalar 30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CuadroTexto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CIRCUITOS 13.8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7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13 Grupo"/>
          <p:cNvGrpSpPr/>
          <p:nvPr/>
        </p:nvGrpSpPr>
        <p:grpSpPr>
          <a:xfrm>
            <a:off x="0" y="6670800"/>
            <a:ext cx="9144000" cy="142920"/>
            <a:chOff x="0" y="6670800"/>
            <a:chExt cx="9144000" cy="142920"/>
          </a:xfrm>
        </p:grpSpPr>
        <p:sp>
          <p:nvSpPr>
            <p:cNvPr id="175" name="29 Conector recto"/>
            <p:cNvSpPr/>
            <p:nvPr/>
          </p:nvSpPr>
          <p:spPr>
            <a:xfrm>
              <a:off x="0" y="6756480"/>
              <a:ext cx="9144000" cy="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30 Conector recto"/>
            <p:cNvSpPr/>
            <p:nvPr/>
          </p:nvSpPr>
          <p:spPr>
            <a:xfrm>
              <a:off x="0" y="6813720"/>
              <a:ext cx="9144000" cy="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31 Conector recto"/>
            <p:cNvSpPr/>
            <p:nvPr/>
          </p:nvSpPr>
          <p:spPr>
            <a:xfrm>
              <a:off x="0" y="6728040"/>
              <a:ext cx="9144000" cy="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32 Conector recto"/>
            <p:cNvSpPr/>
            <p:nvPr/>
          </p:nvSpPr>
          <p:spPr>
            <a:xfrm>
              <a:off x="0" y="6670800"/>
              <a:ext cx="9144000" cy="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324000" y="1052640"/>
          <a:ext cx="8280360" cy="5402160"/>
        </p:xfrm>
        <a:graphic>
          <a:graphicData uri="http://schemas.openxmlformats.org/drawingml/2006/table">
            <a:tbl>
              <a:tblPr/>
              <a:tblGrid>
                <a:gridCol w="527040"/>
                <a:gridCol w="782640"/>
                <a:gridCol w="495000"/>
                <a:gridCol w="719280"/>
                <a:gridCol w="708120"/>
                <a:gridCol w="695160"/>
                <a:gridCol w="2217960"/>
                <a:gridCol w="984240"/>
                <a:gridCol w="574560"/>
                <a:gridCol w="57636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i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fectación del Circui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 Afect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Miguel del Padr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SMP y Marian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10 Bancos de Transf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Artem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2 postes, enderezar 10 postes y 10 transf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La Habana (Ramon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7 postes. Obstaculiza el trabajo el nivel de escomb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Soterrada, Plaza y CHH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5 postes primarios, 1 km de consuctor prim y secunde  Instalar 15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P Rio y S. Spiri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trabaja en conversión de voltaje. 38 transfo. Trabajar en 9 transfo secunda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por escomb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Artemisa, UEBT Cotorro, Lisa y Ctgte Habana (Nels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13 estructuras tirar un 1 km de conductor primario y secunda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ana del 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los Pozos de petróle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01:07:33Z</dcterms:created>
  <dc:creator>bety</dc:creator>
  <dc:description/>
  <dc:language>en-US</dc:language>
  <cp:lastModifiedBy>OC-Yanima Rodríguez Lage, DOPI</cp:lastModifiedBy>
  <dcterms:modified xsi:type="dcterms:W3CDTF">2019-01-31T20:33:29Z</dcterms:modified>
  <cp:revision>304</cp:revision>
  <dc:subject/>
  <dc:title>Diapositiva 1</dc:title>
</cp:coreProperties>
</file>